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5CE3-EB56-4117-BB17-592208C26D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03F-2778-47D0-9396-023F0BF8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9D53-FA47-43FF-9EEC-06E6F39D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8EA-E53C-4A22-9CC7-71B736A7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FD1-7B45-40F7-9F66-2C43B1CE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68F-8BA2-4CB9-87E6-49D55F20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C1D-8CEF-493A-95EA-286D6588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596-4EE7-4232-AE03-B9854054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A74-73EF-4B11-9E88-5DDFF36E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7C2-2ED3-432A-AEDF-02C0CE48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4AFB-6A6B-4087-A413-8D744FEE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9E3-EF2B-4F97-982A-AC8E9F64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16D-C020-4F15-979A-6E845F69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2A4E-2465-458D-8409-D43C381DC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exam will be on Friday, October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8-03-22T08:51:30Z</dcterms:modified>
  <cp:revision>11</cp:revision>
  <dc:subject/>
  <dc:title>Outer Layers of the Sun</dc:title>
</cp:coreProperties>
</file>